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969-554D-4548-93A2-71BA53FA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3658320"/>
            <a:ext cx="77724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BDE-7363-4327-BDA5-ED2C917A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6583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36583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009-17F8-438D-848C-3C13D3DA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40940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40940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365832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365832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365832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6FA-D1D7-4F9B-BF21-D2D012AE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4094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364-9C5E-41F7-81DB-3F2E1CA2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A80-B70E-4609-82B7-F8E59029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0940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48E-2497-432A-8799-E8334B96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AEE-1A22-4FC2-8BB2-460CCF94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28560" y="628200"/>
            <a:ext cx="77724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68A-0BE3-4EE2-9721-E3CCDAD7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0940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6583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9DC-DAE3-4F61-973F-BA26DE0B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36583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6EE-8D36-4E79-BB60-1ACDCA61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40940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8320"/>
            <a:ext cx="7772400" cy="20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5C6-BF55-45D9-A1A4-33FA4F54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5518-1FBF-4B0D-BFF9-A04171351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039000"/>
            <a:ext cx="8834400" cy="52380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13500000"/>
          </a:gradFill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52280" y="6033960"/>
            <a:ext cx="8840880" cy="532080"/>
            <a:chOff x="152280" y="6033960"/>
            <a:chExt cx="8840880" cy="532080"/>
          </a:xfrm>
        </p:grpSpPr>
        <p:sp>
          <p:nvSpPr>
            <p:cNvPr id="5" name=""/>
            <p:cNvSpPr/>
            <p:nvPr/>
          </p:nvSpPr>
          <p:spPr>
            <a:xfrm>
              <a:off x="152280" y="603396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621504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639612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2280" y="604512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2280" y="622620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2280" y="640728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8113680" y="5869080"/>
            <a:ext cx="622440" cy="82080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5000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dadada"/>
            </a:solidFill>
            <a:miter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40940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" name=""/>
          <p:cNvGraphicFramePr/>
          <p:nvPr/>
        </p:nvGraphicFramePr>
        <p:xfrm>
          <a:off x="8140680" y="5958000"/>
          <a:ext cx="569880" cy="64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40680" y="5958000"/>
                    <a:ext cx="5698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" name=""/>
          <p:cNvSpPr/>
          <p:nvPr/>
        </p:nvSpPr>
        <p:spPr>
          <a:xfrm>
            <a:off x="-135720" y="6060960"/>
            <a:ext cx="1681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6FEF-AB80-4C01-91DF-34C6C9983B92}" type="slidenum">
              <a:rPr b="0" lang="en-US" sz="2400" spc="-1" strike="noStrike">
                <a:solidFill>
                  <a:srgbClr val="081d58"/>
                </a:solidFill>
                <a:latin typeface="Book Antiqu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48320" y="1065240"/>
            <a:ext cx="3962160" cy="240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pter 11</a:t>
            </a:r>
            <a:br>
              <a:rPr sz="4400"/>
            </a:br>
            <a:r>
              <a:rPr b="0" i="1" lang="en-US" sz="5400" spc="-1" strike="noStrike">
                <a:solidFill>
                  <a:srgbClr val="fafd00"/>
                </a:solidFill>
                <a:latin typeface="Arial"/>
              </a:rPr>
              <a:t>“Chemical Reactions”</a:t>
            </a:r>
            <a:endParaRPr b="0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e-AP Chemistr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3200400" cy="32004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ymbols used in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uble ar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dicates a reversible reaction (more later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ows that heat is supplied to the rea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used to indicate a catalyst is supplie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n this case, platinum is the catalys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" y="1219320"/>
            <a:ext cx="1295280" cy="152280"/>
            <a:chOff x="914400" y="1219320"/>
            <a:chExt cx="1295280" cy="152280"/>
          </a:xfrm>
        </p:grpSpPr>
        <p:sp>
          <p:nvSpPr>
            <p:cNvPr id="87" name=""/>
            <p:cNvSpPr/>
            <p:nvPr/>
          </p:nvSpPr>
          <p:spPr>
            <a:xfrm>
              <a:off x="914400" y="1371600"/>
              <a:ext cx="1295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1219320"/>
              <a:ext cx="15228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914040" y="1523880"/>
            <a:ext cx="1295640" cy="152640"/>
            <a:chOff x="914040" y="1523880"/>
            <a:chExt cx="1295640" cy="152640"/>
          </a:xfrm>
        </p:grpSpPr>
        <p:sp>
          <p:nvSpPr>
            <p:cNvPr id="90" name=""/>
            <p:cNvSpPr/>
            <p:nvPr/>
          </p:nvSpPr>
          <p:spPr>
            <a:xfrm flipH="1">
              <a:off x="914400" y="1523880"/>
              <a:ext cx="1295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4040" y="1523880"/>
              <a:ext cx="15228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14400" y="2438280"/>
                <a:ext cx="5921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,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hea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066680" y="3733920"/>
                <a:ext cx="20574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P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at is a catalyst?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 substance that speeds up a reaction, without being changed or used up by the reaction.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600" spc="-1" strike="noStrike" u="sng">
                <a:solidFill>
                  <a:srgbClr val="ffffff"/>
                </a:solidFill>
                <a:uFillTx/>
                <a:latin typeface="Arial"/>
              </a:rPr>
              <a:t>Enzymes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are biological or protein catalysts in your body.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#3.  The Skeleton Equa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s formulas and symbols to describe  a reac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t doesn’t indicate how many; this means they are NOT balanced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chemical equations are a </a:t>
            </a:r>
            <a:r>
              <a:rPr b="0" i="1" lang="en-US" sz="4200" spc="-1" strike="noStrike">
                <a:solidFill>
                  <a:srgbClr val="ffff00"/>
                </a:solidFill>
                <a:latin typeface="Arial"/>
              </a:rPr>
              <a:t>descriptio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of the reaction.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rite a </a:t>
            </a: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skeleton equation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for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lid iron (III) sulfide reacts with gaseous hydrogen chloride to form iron (III) chloride and  hydrogen sulfide gas.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itric acid dissolved in water reacts with solid sodium carbonate to form liquid water and carbon dioxide gas and sodium nitrate dissolved in wate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ow, read these equations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5760" y="1409400"/>
            <a:ext cx="8958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Fe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(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1" lang="en-US" sz="35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+ AgNO</a:t>
            </a:r>
            <a:r>
              <a:rPr b="1" lang="en-US" sz="3500" spc="-1" strike="noStrike" baseline="-25000">
                <a:solidFill>
                  <a:srgbClr val="ffffff"/>
                </a:solidFill>
                <a:latin typeface="Arial"/>
              </a:rPr>
              <a:t>3(aq)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Ag</a:t>
            </a:r>
            <a:r>
              <a:rPr b="1" lang="en-US" sz="35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+ Cu(NO</a:t>
            </a:r>
            <a:r>
              <a:rPr b="1" lang="en-US" sz="3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500" spc="-1" strike="noStrike" baseline="-25000">
                <a:solidFill>
                  <a:srgbClr val="ffffff"/>
                </a:solidFill>
                <a:latin typeface="Arial"/>
              </a:rPr>
              <a:t>2(aq)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N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893960" y="3957480"/>
                <a:ext cx="2347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P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2120" y="248760"/>
            <a:ext cx="8616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#4. Balanced Chemical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8915400" cy="509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oms can’t be created or destroyed in an ordinary reaction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atoms we </a:t>
            </a:r>
            <a:r>
              <a:rPr b="0" i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start wi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 must </a:t>
            </a:r>
            <a:r>
              <a:rPr b="0" i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end up with</a:t>
            </a: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 (meaning: balanced!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alanced equation has the same number of each element </a:t>
            </a:r>
            <a:r>
              <a:rPr b="1" i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on both sid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the equation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ules for balancing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mbl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rrect formul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ll the reactants and products, using “+” and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 the number of atoms of each type appearing on both si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the element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at a ti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adding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effici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the numbers in front) where you need more -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save balancing the H and O until LAST!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(hint: I prefer to save O until the </a:t>
            </a:r>
            <a:r>
              <a:rPr b="0" i="1" lang="en-US" sz="3400" spc="-1" strike="noStrike" u="sng">
                <a:solidFill>
                  <a:srgbClr val="fafd00"/>
                </a:solidFill>
                <a:uFillTx/>
                <a:latin typeface="Arial"/>
              </a:rPr>
              <a:t>very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 last)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ouble-Che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make sure it is balance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409400"/>
            <a:ext cx="8839080" cy="468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 a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ubscrip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balance an equation (You can only chang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effici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hange the subscript (formula) you are describing a different chemica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is a different compound than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t a coefficient in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dd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 formula; they must go only i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r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l is okay, but Na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 is no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352680" y="228600"/>
            <a:ext cx="21337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actice Balancing Example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_AgN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_Cu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_Cu(N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_Ag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_Mg + _N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_Mg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_P + _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_P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_Na + _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_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_NaOH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5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_C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_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_C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_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640" y="130032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27960" y="1271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040" y="230652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040" y="326088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01800" y="3246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9040" y="42400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80200" y="4240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20760" y="4254480"/>
            <a:ext cx="3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59080" y="523404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2560" y="52340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2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Describ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ive general typ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of reaction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1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escribing Chemical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scrib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how to write a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ord equatio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2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Predic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oduct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of the five general types of reaction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re are probably millions of reactions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can’t remember them all, but luckily they will fall into several categories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will learn: a) the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5 major type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 will be able to: b) 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Arial"/>
              </a:rPr>
              <a:t>predict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the product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some, we will be able to: c) predict whether or not they will </a:t>
            </a:r>
            <a:r>
              <a:rPr b="1" i="1" lang="en-US" sz="3400" spc="-1" strike="noStrike">
                <a:solidFill>
                  <a:srgbClr val="fafd00"/>
                </a:solidFill>
                <a:latin typeface="Arial"/>
              </a:rPr>
              <a:t>happen at all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?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We recognize them by their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reacta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1 - Combina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bine = put togeth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substances combine to make one compound (also called “synthesis”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an predict the products, especially if th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ctants are two elemen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 + 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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3480" y="5235480"/>
            <a:ext cx="5870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(symbols, charges, cro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cfeb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mplete and balance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6108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 + 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ssume iron (II) oxide is the produc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 + 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 that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step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to write the </a:t>
            </a:r>
            <a:r>
              <a:rPr b="0" i="1" lang="en-US" sz="4400" spc="-1" strike="noStrike">
                <a:solidFill>
                  <a:srgbClr val="fafd00"/>
                </a:solidFill>
                <a:latin typeface="Arial"/>
              </a:rPr>
              <a:t>correct formula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can still change the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ubscrip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this point, but not later while balancing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en balanc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y changing just the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</a:rPr>
              <a:t>coefficien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l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1 – Combina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itional Important Notes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)  Some </a:t>
            </a:r>
            <a:r>
              <a:rPr b="0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nonmetal oxid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act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with wat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produce an acid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4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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Some </a:t>
            </a:r>
            <a:r>
              <a:rPr b="0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metallic oxid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eact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with wat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produce a base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O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4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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8760" y="3181320"/>
            <a:ext cx="87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is is what happens to make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id rai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2 - Decomposi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ompose = fall apa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ne reacta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reaks apart into two or more elements or compound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Cl                     Na +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CaO +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i="1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energ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heat, sunlight, electricity, etc.) is usually requir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3048120"/>
                <a:ext cx="2855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electricity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14600" y="3733920"/>
                <a:ext cx="18288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2 - Decomposi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can predict the products if it is a binary compound (which means it is made up of only two element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breaks apart into the elements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g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2855880" cy="8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057400" y="4343400"/>
                <a:ext cx="18288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2 - Decomposi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the compound has more than two elements you must be given one of the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ther product will be from the missing pie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___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___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438280" y="4267080"/>
                <a:ext cx="18288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251160" y="4989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3 - Single Replacement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element replaces anoth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ctants must b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n element and a compound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ducts will be a different element and a different compound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  + KCl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K + NaCl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+ LiCl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F + 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64280" y="4532400"/>
            <a:ext cx="27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ations switch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70680" y="532764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ions swi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040" y="4492800"/>
            <a:ext cx="822240" cy="582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01960" y="4465800"/>
            <a:ext cx="515880" cy="5968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6880" y="5234040"/>
            <a:ext cx="530280" cy="5173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0320" y="5221440"/>
            <a:ext cx="582480" cy="556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2" idx="7"/>
            <a:endCxn id="153" idx="1"/>
          </p:cNvCxnSpPr>
          <p:nvPr/>
        </p:nvCxnSpPr>
        <p:spPr>
          <a:xfrm flipH="1" flipV="1" rot="5400000">
            <a:off x="1707840" y="4195440"/>
            <a:ext cx="25920" cy="714960"/>
          </a:xfrm>
          <a:prstGeom prst="curvedConnector5">
            <a:avLst>
              <a:gd name="adj1" fmla="val 1292957"/>
              <a:gd name="adj2" fmla="val 49974"/>
              <a:gd name="adj3" fmla="val 1292957"/>
            </a:avLst>
          </a:prstGeom>
          <a:ln w="25560">
            <a:solidFill>
              <a:srgbClr val="ffff00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57" name=""/>
          <p:cNvCxnSpPr>
            <a:stCxn id="154" idx="7"/>
            <a:endCxn id="155" idx="1"/>
          </p:cNvCxnSpPr>
          <p:nvPr/>
        </p:nvCxnSpPr>
        <p:spPr>
          <a:xfrm flipH="1" flipV="1" rot="5400000">
            <a:off x="1662840" y="4674960"/>
            <a:ext cx="8640" cy="1236960"/>
          </a:xfrm>
          <a:prstGeom prst="curvedConnector5">
            <a:avLst>
              <a:gd name="adj1" fmla="val 3839130"/>
              <a:gd name="adj2" fmla="val 49985"/>
              <a:gd name="adj3" fmla="val 3839130"/>
            </a:avLst>
          </a:prstGeom>
          <a:ln w="25560">
            <a:solidFill>
              <a:srgbClr val="ffff00"/>
            </a:solidFill>
            <a:miter/>
            <a:headEnd len="med" type="triangle" w="lg"/>
            <a:tailEnd len="med" type="triangle" w="lg"/>
          </a:ln>
        </p:spPr>
      </p:cxn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3 Single Replacement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tals will replace other metals (and they can also replace hydrogen)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 + AlN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Zn + HCl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nk of water as:  HOH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tals replace the first H, and then combines with the hydroxide (OH)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a + HOH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1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escribing Chemical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scrib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how to write a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keleton equatio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3 Single Replacement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an even tell 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whether or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 single replacement reaction will happen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some chemicals are more </a:t>
            </a: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800" spc="-1" strike="noStrike" u="sng">
                <a:solidFill>
                  <a:srgbClr val="ffff00"/>
                </a:solidFill>
                <a:uFillTx/>
                <a:latin typeface="Arial"/>
              </a:rPr>
              <a:t>active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n oth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active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eplac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ess activ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a list on page 333 - called the </a:t>
            </a: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Activity Series of Meta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er on the list replaces those lower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840" y="171000"/>
            <a:ext cx="8634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The “Activity Series” of Metal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3" name=""/>
          <p:cNvSpPr/>
          <p:nvPr/>
        </p:nvSpPr>
        <p:spPr>
          <a:xfrm>
            <a:off x="1144440" y="914400"/>
            <a:ext cx="173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Lith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Calc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So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Magnes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Alumin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Zi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Chrom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Nick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L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Hydro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Bismu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Si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Platin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84400" y="974880"/>
            <a:ext cx="5943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s can replace other metals, provided they are above the metal they are trying to replace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or example, zinc will replace le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287880"/>
            <a:ext cx="586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s above hydrogen can replace hydrogen in acid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4572000"/>
            <a:ext cx="5867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tals from sodium upward can replace hydrogen in wat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2720" y="1752480"/>
            <a:ext cx="0" cy="3353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er ac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181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er ac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22240" y="3763800"/>
            <a:ext cx="492120" cy="357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404800" y="2048040"/>
            <a:ext cx="755640" cy="2598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127240" y="2788920"/>
            <a:ext cx="1365120" cy="25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26880" y="3029040"/>
            <a:ext cx="1351080" cy="807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00160" y="966960"/>
            <a:ext cx="1670040" cy="2995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2760" y="901800"/>
            <a:ext cx="1603440" cy="1164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The “Activity Series” of Haloge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371600"/>
            <a:ext cx="211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luor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lor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rom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91764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ogens can replace 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logens in compounds, provided they are above the halogen they are trying to repla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19840" y="3962520"/>
            <a:ext cx="3088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Na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+ F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80320" y="3957480"/>
            <a:ext cx="26024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NaF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76920" y="4648320"/>
            <a:ext cx="3252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2(s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+ Br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25400" y="47242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14800" y="4657680"/>
            <a:ext cx="264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 Reactio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9440" y="40384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0" cy="16765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914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#3 Single Replacement Reactions Practice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e + CuSO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b + KCl </a:t>
            </a: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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l + HCl </a:t>
            </a: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fafd00"/>
                </a:solidFill>
                <a:uFillTx/>
                <a:latin typeface="Arial"/>
              </a:rPr>
              <a:t>#4 - Double Replacement Reactions</a:t>
            </a:r>
            <a:endParaRPr b="0" lang="en-US" sz="43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wo things replace each other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Reactants must be tw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ionic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compound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, in aqueous solu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NaOH +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FeCl</a:t>
            </a:r>
            <a:r>
              <a:rPr b="1" lang="en-US" sz="34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he positive ions change place.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NaOH +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FeCl</a:t>
            </a:r>
            <a:r>
              <a:rPr b="1" lang="en-US" sz="34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Fe</a:t>
            </a:r>
            <a:r>
              <a:rPr b="1" lang="en-US" sz="3400" spc="-1" strike="noStrike" baseline="30000">
                <a:solidFill>
                  <a:srgbClr val="fafd00"/>
                </a:solidFill>
                <a:latin typeface="Arial"/>
              </a:rPr>
              <a:t>+3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+  Na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+1</a:t>
            </a:r>
            <a:r>
              <a:rPr b="1" lang="en-US" sz="3400" spc="-1" strike="noStrike" baseline="30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Cl</a:t>
            </a:r>
            <a:r>
              <a:rPr b="1" lang="en-US" sz="3400" spc="-1" strike="noStrike" baseline="30000">
                <a:solidFill>
                  <a:srgbClr val="fafd00"/>
                </a:solidFill>
                <a:latin typeface="Arial"/>
              </a:rPr>
              <a:t>-1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= NaOH + 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FeCl</a:t>
            </a:r>
            <a:r>
              <a:rPr b="1" lang="en-US" sz="34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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Fe(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H)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+ Na</a:t>
            </a:r>
            <a:r>
              <a:rPr b="1" lang="en-US" sz="3400" spc="-1" strike="noStrike">
                <a:solidFill>
                  <a:srgbClr val="fafd00"/>
                </a:solidFill>
                <a:latin typeface="Arial"/>
              </a:rPr>
              <a:t>C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0880" y="3247920"/>
            <a:ext cx="689040" cy="741600"/>
          </a:xfrm>
          <a:prstGeom prst="ellips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00400" y="3267000"/>
            <a:ext cx="689040" cy="741600"/>
          </a:xfrm>
          <a:prstGeom prst="ellips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" name=""/>
          <p:cNvCxnSpPr/>
          <p:nvPr/>
        </p:nvCxnSpPr>
        <p:spPr>
          <a:xfrm flipH="1" flipV="1" rot="5400000">
            <a:off x="1821600" y="2673360"/>
            <a:ext cx="8640" cy="1236960"/>
          </a:xfrm>
          <a:prstGeom prst="curvedConnector5">
            <a:avLst>
              <a:gd name="adj1" fmla="val 3839130"/>
              <a:gd name="adj2" fmla="val 49985"/>
              <a:gd name="adj3" fmla="val 3839130"/>
            </a:avLst>
          </a:prstGeom>
          <a:ln w="25560">
            <a:solidFill>
              <a:srgbClr val="ffff00"/>
            </a:solidFill>
            <a:miter/>
            <a:headEnd len="med" type="triangle" w="lg"/>
            <a:tailEnd len="med" type="triangle" w="lg"/>
          </a:ln>
        </p:spPr>
      </p:cxn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fafd00"/>
                </a:solidFill>
                <a:uFillTx/>
                <a:latin typeface="Arial"/>
              </a:rPr>
              <a:t>#4 - Double Replacement Reactions</a:t>
            </a:r>
            <a:endParaRPr b="0" lang="en-US" sz="43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certain “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ing forc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r reas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on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ppen if one of the product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 doesn’t dissolve in water and forms a solid (a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ecipitat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), o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 is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t bubbles out, 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 is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lecular compou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which will usually be water)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mplete and balance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ume all of the following reactions actually take place: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aCl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+ NaOH </a:t>
            </a:r>
            <a:r>
              <a:rPr b="1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uCl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+ K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OH + Fe(NO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(NH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+ BaF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How to recognize which type?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Look at the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reactants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 + E   =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  =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E + C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  =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ingle replacemen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 + C   =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ouble replacemen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actice Examples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Zn + 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HgO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KBr + Cl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gN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NaCl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Mg(OH)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afd00"/>
                </a:solidFill>
                <a:uFillTx/>
                <a:latin typeface="Arial"/>
              </a:rPr>
              <a:t>#5 – Combustion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mbustion means “</a:t>
            </a:r>
            <a:r>
              <a:rPr b="1" lang="en-US" sz="3800" spc="-1" strike="noStrike" u="sng">
                <a:solidFill>
                  <a:srgbClr val="ffffff"/>
                </a:solidFill>
                <a:uFillTx/>
                <a:latin typeface="Arial"/>
              </a:rPr>
              <a:t>add oxyge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ormally, a compound composed of only C, H, (and maybe O) is reacted with oxygen – usually called “</a:t>
            </a:r>
            <a:r>
              <a:rPr b="0" lang="en-US" sz="3800" spc="-1" strike="noStrike" u="sng">
                <a:solidFill>
                  <a:srgbClr val="fafd00"/>
                </a:solidFill>
                <a:uFillTx/>
                <a:latin typeface="Arial"/>
              </a:rPr>
              <a:t>burnin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f the combustion is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Arial"/>
              </a:rPr>
              <a:t>complet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, the products will be C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.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f the combustion is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Arial"/>
              </a:rPr>
              <a:t>incomplet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, the products will be CO (or possibly just C) and H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.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1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Describing Chemical 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scrib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he steps for writing a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balanced chemical equatio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mbustion Reaction Examples: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409400"/>
            <a:ext cx="853416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(assume complet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(incomplet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complet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incomplet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UMMARY: An equation...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cribes a rea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be balanced in order to follow the Law of Conservation of Ma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only be balanced by changing the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</a:rPr>
              <a:t>coefficient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al symbol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o indicate the physical state, if a catalyst or energy is required, etc.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8760" y="838080"/>
            <a:ext cx="87566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 in 5 major type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an tell what type they are by looking at the reactant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ingle Replac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ppens based on the 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Activity Se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uble Replac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ppens if one product is: 1) a precipitate (an insoluble solid), 2)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a molecular compound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or 3) a ga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628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8548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some more practice problems of balancing equations located from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websi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Interesting Lin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alancing Equ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8040" y="628560"/>
            <a:ext cx="839304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3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s in Aqueous So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escrib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he information found in a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net ionic equatio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6600" y="628560"/>
            <a:ext cx="844848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ection 11.3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actions in Aqueous Solu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dic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he formation of a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ecipitat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in a double replacement reaction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et Ionic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Many reactions occur in water- that is, in </a:t>
            </a:r>
            <a:r>
              <a:rPr b="1" i="1" lang="en-US" sz="4100" spc="-1" strike="noStrike" u="sng">
                <a:solidFill>
                  <a:srgbClr val="fafd00"/>
                </a:solidFill>
                <a:uFillTx/>
                <a:latin typeface="Arial"/>
              </a:rPr>
              <a:t>aqueous solution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When dissolved in water, many ionic compounds “dissociate”, or separate, into cations and anions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Now we are ready to write an </a:t>
            </a:r>
            <a:r>
              <a:rPr b="0" lang="en-US" sz="4100" spc="-1" strike="noStrike" u="sng">
                <a:solidFill>
                  <a:srgbClr val="ffff00"/>
                </a:solidFill>
                <a:uFillTx/>
                <a:latin typeface="Arial"/>
              </a:rPr>
              <a:t>ionic equation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et Ionic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755640"/>
            <a:ext cx="891540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eeds to be a double replacement rea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N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NaCl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gCl + NaN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this is the </a:t>
            </a:r>
            <a:r>
              <a:rPr b="0" lang="en-US" sz="3400" spc="-1" strike="noStrike" u="sng">
                <a:solidFill>
                  <a:srgbClr val="fafd00"/>
                </a:solidFill>
                <a:uFillTx/>
                <a:latin typeface="Arial"/>
              </a:rPr>
              <a:t>full balanced equ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2. next, write it as an </a:t>
            </a:r>
            <a:r>
              <a:rPr b="0" lang="en-US" sz="3400" spc="-1" strike="noStrike" u="sng">
                <a:solidFill>
                  <a:srgbClr val="fafd00"/>
                </a:solidFill>
                <a:uFillTx/>
                <a:latin typeface="Arial"/>
              </a:rPr>
              <a:t>ionic equation</a:t>
            </a: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y splitting the compounds into their ions: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N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Na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AgC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+ Na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+ N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hat the AgCl did not ionize, because it is a “precipitat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9360" y="4292640"/>
            <a:ext cx="1312920" cy="7952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Net Ionic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simplify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by crossing out ions not directly involved (called spectator ions)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US" sz="3800" spc="-1" strike="noStrike" baseline="30000">
                <a:solidFill>
                  <a:srgbClr val="ffffff"/>
                </a:solidFill>
                <a:latin typeface="Arial"/>
              </a:rPr>
              <a:t>1+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+ Cl</a:t>
            </a:r>
            <a:r>
              <a:rPr b="1" lang="en-US" sz="3800" spc="-1" strike="noStrike" baseline="30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AgCl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s is called the </a:t>
            </a:r>
            <a:r>
              <a:rPr b="1" lang="en-US" sz="3800" spc="-1" strike="noStrike" u="sng">
                <a:solidFill>
                  <a:srgbClr val="fafd00"/>
                </a:solidFill>
                <a:uFillTx/>
                <a:latin typeface="Arial"/>
              </a:rPr>
              <a:t>net ionic equation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Let’s talk about precipitates before we do some other example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Predicting the Precipitate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39760" y="779040"/>
            <a:ext cx="8664480" cy="535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oluble salt = a precipitate     [note Figure 11.11, p.342 (AgCl)]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ral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lubility rul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found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11.3, p. 344 in textboo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ence section - page R54 (back of textbook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b manual Table A.3, page 33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periodic table handou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ll chemical reactions…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ave two parts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afd00"/>
                </a:solidFill>
                <a:latin typeface="Arial"/>
              </a:rPr>
              <a:t>Reactant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= the substances you start with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afd00"/>
                </a:solidFill>
                <a:latin typeface="Arial"/>
              </a:rPr>
              <a:t>Product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= the substances you end up with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actants will turn into the products.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9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338560" y="4943520"/>
            <a:ext cx="4466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d of Chapter 11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755640"/>
            <a:ext cx="854856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do some examples together of net ionic equations, starting with these reactant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+ AgN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aCl + Ba(N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257480" y="0"/>
          <a:ext cx="613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0"/>
                    <a:ext cx="613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443560" y="10270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age 3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04800" y="2700360"/>
            <a:ext cx="22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90760" y="2700360"/>
            <a:ext cx="2138400" cy="619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95480" y="3305160"/>
            <a:ext cx="349200" cy="44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00280" y="3444840"/>
            <a:ext cx="3732120" cy="238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7680" y="2068560"/>
            <a:ext cx="25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4720" y="2025720"/>
            <a:ext cx="1997280" cy="620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60680" y="2644920"/>
            <a:ext cx="2514600" cy="276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97400" y="5021280"/>
            <a:ext cx="2336760" cy="183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2600" y="739800"/>
            <a:ext cx="2581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8760" y="5937120"/>
            <a:ext cx="129852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56440" y="5751360"/>
            <a:ext cx="1987560" cy="11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In a chemical reaction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n’t created or destroyed (according to the Law of Conservation of Mas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ction can be described several way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#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 a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sentenc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item is a word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 reacts with chlorine to form copper (II) chlorid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#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 a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</a:rPr>
              <a:t>word equ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me symbols u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 + chlorine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pper (II) chlor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ymbols in equations?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ext page 323</a:t>
            </a:r>
            <a:endParaRPr b="0" lang="en-US" sz="2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arrow (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→)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parates the reactants from the product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rrow point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duct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d as: “reacts to form” or yield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plus sign = “and”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s) after the formula = solid: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(s)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g) after the formula = gas: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C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(g)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l) after the formula = liquid: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ffffff"/>
                </a:solidFill>
                <a:latin typeface="Arial"/>
              </a:rPr>
              <a:t>(l)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e73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ymbols used in equations</a:t>
            </a:r>
            <a:endParaRPr b="0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(aq) after the formula = dissolved in water, an  aqueous solution: NaCl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is a salt water solu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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d after a product indicates a gas has been </a:t>
            </a:r>
            <a:r>
              <a:rPr b="0" i="1" lang="en-US" sz="4200" spc="-1" strike="noStrike">
                <a:solidFill>
                  <a:srgbClr val="ffff00"/>
                </a:solidFill>
                <a:latin typeface="Arial"/>
              </a:rPr>
              <a:t>produced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  H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ymbol"/>
                <a:ea typeface="Symbol"/>
              </a:rPr>
              <a:t>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d after a product indicates a solid has been </a:t>
            </a:r>
            <a:r>
              <a:rPr b="0" i="1" lang="en-US" sz="4200" spc="-1" strike="noStrike">
                <a:solidFill>
                  <a:srgbClr val="ffff00"/>
                </a:solidFill>
                <a:latin typeface="Arial"/>
              </a:rPr>
              <a:t>produced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  PbI</a:t>
            </a:r>
            <a:r>
              <a:rPr b="1" lang="en-US" sz="4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01:51:26Z</dcterms:created>
  <dc:creator>Stephen L. Cotton</dc:creator>
  <dc:description/>
  <dc:language>en-US</dc:language>
  <cp:lastModifiedBy>Stephen L. Cotton</cp:lastModifiedBy>
  <cp:lastPrinted>1997-11-30T23:07:50Z</cp:lastPrinted>
  <dcterms:modified xsi:type="dcterms:W3CDTF">2008-01-14T17:04:30Z</dcterms:modified>
  <cp:revision>107</cp:revision>
  <dc:subject/>
  <dc:title>Chapter 11 Chemical Rea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>http://mrgreen.tierranet.com</vt:lpwstr>
  </property>
  <property fmtid="{D5CDD505-2E9C-101B-9397-08002B2CF9AE}" pid="9" name="LinkColor">
    <vt:r8>16711782</vt:r8>
  </property>
  <property fmtid="{D5CDD505-2E9C-101B-9397-08002B2CF9AE}" pid="10" name="MailAddress">
    <vt:lpwstr>tvgreen@aol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DATA\Web Pages\Temp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